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2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EF6E18F-12E7-4D2B-A5F2-C1187A7A5A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6041600-1406-4A54-8E20-BA0584566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B5F7D5F-3C13-4AA3-9400-078CB0800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7AD6EF8-8208-4929-9DC1-A6B9E4099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C0F3234-3CB2-41D1-88BE-C9BB0CC15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AE514CF-07AE-4AF2-AFF3-241700447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24F69F0-BC7F-4357-8640-9EF3C1991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A8F2210-92BC-4E14-A792-62D55D2C7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EF3D7E1-2825-42E6-AD1F-1EFE42EA8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295B4C7-6FF7-4D0B-85CD-5056DD0F9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3F5B45C-39A4-4CAA-AD14-B70B90122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8B769C9-2D48-4D45-9717-672429F49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ADA061E-3611-4E4D-9A1A-0AA7B9255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D469B09-ED87-4EFB-93BC-09D569865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FC65CDC-1C5B-4AAB-A94E-19AA0A0A0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E31C891-8318-40CD-B00D-CF095E0C3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654B7C5-B5CB-4B40-AFC4-C1E4CB9FD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96BA6-F6CE-46C8-8A1A-4F6E48BB93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0877-CD83-4A5F-82D9-F8A1D5BC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A6596-BAA4-43C6-9F7B-E83C4C12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FD4A8-5988-4414-AB48-5E86001EAD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7F9BD-9701-47E3-B353-81BC8195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F3D41-15E3-405D-AC3E-8D4BE3C9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C6AEA-33DF-4225-AEE6-118C0B9E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4FC28-D8A9-4689-8B00-A214CD3A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17E6C-3CD6-4D47-85F6-B6D60AC4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DE3BB-7A72-4FEA-A6AE-42C1B070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9C994-9294-4CB7-BE9A-C365498C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EFB3F-F40C-40B7-AF8E-204BDE71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9990A-C7F1-40F3-A0AA-8A5821CF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C4515-F6E9-442E-B203-CA4A6F7D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21AA2-A311-4FF1-99C2-9011F76D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2A03E-D500-44C0-BBFB-34434511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BB249-1D30-4E11-BF01-6977F37F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CC4A-7F6D-401E-A77A-BB9F528A89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5A1C-FE28-4C88-AC67-C8A72E33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ED7D-F898-4002-B715-3B190E28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6B73-B896-4585-A15D-6FFFA975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C06A-1579-46AD-A768-6B468F6A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EC67F-7AEF-4856-BDDE-A992E054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D8B0-DF58-49A6-B743-95E7D829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6639-315E-46DA-991F-11D8A337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EDCF-54C5-41E3-880D-7DE8D1F2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98F9-093C-4DC9-A6F9-24ECC01A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5269-B749-4FEE-84B9-6F10E8B1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1584-8A2B-4A3F-A624-30B9F687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4630-1E57-47B0-865B-6A92BB6D82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692A75-0FB3-4337-B40D-DC5A064609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666393-02AD-452E-919B-874F4780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165E78-68F7-4413-ACCF-98CA5B0C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99543-9982-44A9-9AF2-7C173F34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D370E8-2975-4728-A403-827EC414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5A2C0F-498C-43A1-8BC8-3CAE5C6C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E985AB-C5A1-47E6-8474-8D7CA927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37B567-13B8-461B-A413-8F18AFB0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352E5-3154-42E9-8CFF-D33A0F3B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8E3BBF-96E8-4D12-913B-3AEEEFE6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C2A029-B51C-45B6-8CA1-B1CA33B4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772722-EC4A-4082-A6F5-FED91CC7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32D7F-6CD8-434C-A342-2F303ECE54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D661D-93A4-45F8-8708-D717033B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7407E-F95E-49C7-A8B0-9A3A6401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6978-5D47-4445-8956-DE536FA5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0D66E-EF87-4CEB-91B5-37342B5A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097D6-6094-4B60-95B4-E6A29F91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941A-ED34-4531-968D-C1950D62E63A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4D96-4234-49C4-9812-92C6D49759D1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2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9" descr="arbre32"/>
          <p:cNvPicPr/>
          <p:nvPr/>
        </p:nvPicPr>
        <p:blipFill>
          <a:blip r:embed="rId3"/>
          <a:stretch/>
        </p:blipFill>
        <p:spPr>
          <a:xfrm>
            <a:off x="0" y="2724120"/>
            <a:ext cx="5311800" cy="35784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1"/>
          <p:cNvSpPr/>
          <p:nvPr/>
        </p:nvSpPr>
        <p:spPr>
          <a:xfrm>
            <a:off x="2120760" y="6381720"/>
            <a:ext cx="5046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eting of the Expert Committe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 Evaluation of Rur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6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1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7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1"/>
          <p:cNvSpPr/>
          <p:nvPr/>
        </p:nvSpPr>
        <p:spPr>
          <a:xfrm>
            <a:off x="2120760" y="6381720"/>
            <a:ext cx="5046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eting of the Expert Committe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 Evaluation of Rur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8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3332-6C5A-48A0-874B-AAB05A8E852C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dt" idx="9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5840" y="1714320"/>
            <a:ext cx="8501040" cy="35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SYNTHESIS OF THE ANNUAL PROGRESS REPORTS FOR 2008</a:t>
            </a:r>
            <a:br>
              <a:rPr sz="3200"/>
            </a:b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CONCERNING ONGOING EVALUATION</a:t>
            </a:r>
            <a:br>
              <a:rPr sz="3200"/>
            </a:br>
            <a:br>
              <a:rPr sz="3200"/>
            </a:b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Hannes Wimmer &amp; Margot Van Soetendael</a:t>
            </a:r>
            <a:endParaRPr b="1" lang="en-US" sz="2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928800" y="4714920"/>
            <a:ext cx="745956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4. Systems for data collection and management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2A9E-A67B-4A00-B37C-EDE02492CC02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systems for data colle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tail and describe responsi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main data sources &amp; typ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verview 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ata gap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ctivities to overcome data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arrange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n to provide evaluators with necessary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6629400" y="1523880"/>
            <a:ext cx="2416320" cy="2590920"/>
          </a:xfrm>
          <a:prstGeom prst="wedgeRoundRectCallout">
            <a:avLst>
              <a:gd name="adj1" fmla="val -77333"/>
              <a:gd name="adj2" fmla="val 1825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g. include a diagram or description of the architecture of the system for data management; information flow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5. Networking activities of people involved in evaluation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Networking activit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gradually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  focus groups organized by Evaluation Helpdesk;  Helpdesk missions and visits to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w APRs (17) report on evaluation-related workshops at national or internation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w networking activities are reported for MS with regional programmes and in New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apacity build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slowly taking up but remains mo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1395-203E-4EA4-BF28-C248B04580FA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5. Networking activities of people involved in evaluation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AB59-56B5-48F6-9798-641DB65FE038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verview on particip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relevant networking activi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the details of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urpose, outcome and follow-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networking events, workshops and seminar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references on further docu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networking event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ight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apacity build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6629400" y="1600200"/>
            <a:ext cx="2416320" cy="1185840"/>
          </a:xfrm>
          <a:prstGeom prst="wedgeRoundRectCallout">
            <a:avLst>
              <a:gd name="adj1" fmla="val -106356"/>
              <a:gd name="adj2" fmla="val 4746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t local, regional, national and EU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6651720" y="3000240"/>
            <a:ext cx="2415960" cy="1643040"/>
          </a:xfrm>
          <a:prstGeom prst="wedgeRoundRectCallout">
            <a:avLst>
              <a:gd name="adj1" fmla="val -97300"/>
              <a:gd name="adj2" fmla="val 1209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Who are the initiators,  the participants? What are the lessons learned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6651720" y="4815000"/>
            <a:ext cx="2415960" cy="685800"/>
          </a:xfrm>
          <a:prstGeom prst="wedgeRoundRectCallout">
            <a:avLst>
              <a:gd name="adj1" fmla="val -83509"/>
              <a:gd name="adj2" fmla="val -16435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.g. publications, internet-link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6. Difficulties encountered and need for additional work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difficulties encountered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ut also more practical in nature,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IT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s in dealing with simultaneous evaluation tasks, (e.g. ex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 evaluation 2000-2006 and the preparation of MTE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practical application of the overall CM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fulfilling the requirements of the monitoring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7ECC-0FFB-4521-9141-3DF25458F071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6. Difficulties encountered and need for additional work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08B9-C62D-4657-844D-E57F5A88D905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most relevant difficul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perienced in fulfilling ongoing evaluation  activi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lanned and realized solu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for overcoming these difficul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ifferenti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difficulties to be resolved at programme, Member State or EU level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6629400" y="1600200"/>
            <a:ext cx="2416320" cy="1371600"/>
          </a:xfrm>
          <a:prstGeom prst="wedgeRoundRectCallout">
            <a:avLst>
              <a:gd name="adj1" fmla="val -91587"/>
              <a:gd name="adj2" fmla="val 5266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ive  references to previous chapters where problems are repor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6651720" y="3809880"/>
            <a:ext cx="2415960" cy="1371600"/>
          </a:xfrm>
          <a:prstGeom prst="wedgeRoundRectCallout">
            <a:avLst>
              <a:gd name="adj1" fmla="val -80814"/>
              <a:gd name="adj2" fmla="val -25925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escribe the solutions adopted, the involved actors, the lessons lear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57520" y="2214720"/>
            <a:ext cx="37861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....see Annex 1 </a:t>
            </a:r>
            <a:r>
              <a:rPr b="1" lang="en-GB" sz="1800" spc="-1" strike="noStrike" u="sng">
                <a:solidFill>
                  <a:srgbClr val="006463"/>
                </a:solidFill>
                <a:uFillTx/>
                <a:latin typeface="Arial"/>
              </a:rPr>
              <a:t>Explanatory note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, providing clarifications to the MAs for preparing the section on ongoing evaluation in APRs (complementing Guidance Note B of the Handbook on CMEF) </a:t>
            </a:r>
            <a:br>
              <a:rPr sz="2800"/>
            </a:br>
            <a:endParaRPr b="1" lang="en-US" sz="18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51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BC3A-2407-42F9-8DD4-2A9C24CA336E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Datumsplatzhalter 4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642960" y="785880"/>
            <a:ext cx="4643280" cy="5506920"/>
          </a:xfrm>
          <a:prstGeom prst="rect">
            <a:avLst/>
          </a:prstGeom>
          <a:ln w="0">
            <a:noFill/>
          </a:ln>
        </p:spPr>
      </p:pic>
      <p:sp>
        <p:nvSpPr>
          <p:cNvPr id="254" name="Titel 1"/>
          <p:cNvSpPr/>
          <p:nvPr/>
        </p:nvSpPr>
        <p:spPr>
          <a:xfrm>
            <a:off x="468360" y="71280"/>
            <a:ext cx="6335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For APR 2009 pleas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47640" y="2637000"/>
            <a:ext cx="6336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56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3AA0-6A3C-47B8-AD7A-423229185473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96F0-CD34-4F1C-A0EB-520B91A8A3D8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68360" y="141300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</a:rPr>
              <a:t>The Guidance Note B - Evaluation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rcRect l="27572" t="7346" r="11615" b="48359"/>
          <a:stretch/>
        </p:blipFill>
        <p:spPr>
          <a:xfrm>
            <a:off x="457200" y="2060640"/>
            <a:ext cx="5562720" cy="3892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81" name="Oval 5"/>
          <p:cNvSpPr/>
          <p:nvPr/>
        </p:nvSpPr>
        <p:spPr>
          <a:xfrm>
            <a:off x="811080" y="2149560"/>
            <a:ext cx="865440" cy="2887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0" y="0"/>
            <a:ext cx="6500880" cy="123336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 and Focus of AP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6172200" y="1933560"/>
            <a:ext cx="2825640" cy="1424160"/>
          </a:xfrm>
          <a:prstGeom prst="wedgeRoundRectCallout">
            <a:avLst>
              <a:gd name="adj1" fmla="val -97402"/>
              <a:gd name="adj2" fmla="val 6244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PR 2007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: main focus on 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evaluation system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in the national/regional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6172200" y="3814920"/>
            <a:ext cx="2825640" cy="2433600"/>
          </a:xfrm>
          <a:prstGeom prst="wedgeRoundRectCallout">
            <a:avLst>
              <a:gd name="adj1" fmla="val -99495"/>
              <a:gd name="adj2" fmla="val -39041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PR 2008+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: main focus on 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evaluation activities undertaken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(incl. capacity building and methodological work), data collection, and difficulties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533520" y="3429000"/>
            <a:ext cx="426708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533520" y="3886200"/>
            <a:ext cx="4267080" cy="1523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I. The Ongoing Evaluation Sections in APRs - overview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7652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Overall the sections on ongoing evaluation in the APRS for 2008 vary in their degree of completeness &amp; coverage of indicative t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16C3-A290-46F6-BA0F-D7A2DBB26E2A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rcRect l="0" t="5655" r="0" b="0"/>
          <a:stretch/>
        </p:blipFill>
        <p:spPr>
          <a:xfrm>
            <a:off x="790560" y="2357280"/>
            <a:ext cx="7281720" cy="37371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102"/>
          <p:cNvSpPr/>
          <p:nvPr/>
        </p:nvSpPr>
        <p:spPr>
          <a:xfrm>
            <a:off x="285840" y="3067200"/>
            <a:ext cx="50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00"/>
                </a:solidFill>
                <a:latin typeface="Wingdings"/>
                <a:ea typeface="Wingdings"/>
              </a:rPr>
              <a:t></a:t>
            </a:r>
            <a:r>
              <a:rPr b="0" lang="en-GB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r>
              <a:rPr b="0" lang="en-GB" sz="3600" spc="-1" strike="noStrike">
                <a:solidFill>
                  <a:srgbClr val="99cc00"/>
                </a:solidFill>
                <a:latin typeface="Wingdings"/>
                <a:ea typeface="Wingdings"/>
              </a:rPr>
              <a:t></a:t>
            </a:r>
            <a:r>
              <a:rPr b="0" lang="en-GB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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1. The Ongoing Evaluation Sections in APRs - overview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9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4915-DB80-41FF-88F3-0EAADAB7ED3D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evaluation section of the APR as a tool to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emonstrate progr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ongoing evalu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in sufficient detail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ll (!) 5 topics indicated in Guidance </a:t>
            </a:r>
            <a:r>
              <a:rPr b="1" lang="pl-PL" sz="2000" spc="-1" strike="noStrike">
                <a:solidFill>
                  <a:srgbClr val="99cc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te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e CMEF Hand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077"/>
          <p:cNvSpPr/>
          <p:nvPr/>
        </p:nvSpPr>
        <p:spPr>
          <a:xfrm>
            <a:off x="6629400" y="1143000"/>
            <a:ext cx="2416320" cy="1600200"/>
          </a:xfrm>
          <a:prstGeom prst="wedgeRoundRectCallout">
            <a:avLst>
              <a:gd name="adj1" fmla="val -78777"/>
              <a:gd name="adj2" fmla="val 71430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Use cross-references if information is provided in previous reports or se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078"/>
          <p:cNvSpPr/>
          <p:nvPr/>
        </p:nvSpPr>
        <p:spPr>
          <a:xfrm>
            <a:off x="6629400" y="3200400"/>
            <a:ext cx="2416320" cy="2895480"/>
          </a:xfrm>
          <a:prstGeom prst="wedgeRoundRectCallout">
            <a:avLst>
              <a:gd name="adj1" fmla="val -89550"/>
              <a:gd name="adj2" fmla="val 6578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ay particular attention to the coverage of the topics ‘evaluation activities’, ‘networking activities’ and ‘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difficulties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encountered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2. The system established to ensure ongoing evaluation 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214280"/>
            <a:ext cx="853452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 describ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stablishment of evalu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e approval of many RD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% of APR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ill cover description of evalua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going admin.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preparations for tende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 APRs mention selection procedure for external evalu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outsourcing models for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Steering Group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becoming oper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 SGs mentioned in 2008 (14 in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: input for ToRs; selection of evaluator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9F3E-2FE1-430E-AD06-3703DFB83563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2. The system established to ensure ongoing evaluation 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0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91D0-0105-4563-ACCE-79DA7D5409A2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comprehensively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valuation 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evaluation 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dministrative arrange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n for hiring (MTE) evalu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information on coordin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evaluation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082"/>
          <p:cNvSpPr/>
          <p:nvPr/>
        </p:nvSpPr>
        <p:spPr>
          <a:xfrm>
            <a:off x="6629400" y="1143000"/>
            <a:ext cx="2416320" cy="857160"/>
          </a:xfrm>
          <a:prstGeom prst="wedgeRoundRectCallout">
            <a:avLst>
              <a:gd name="adj1" fmla="val -104944"/>
              <a:gd name="adj2" fmla="val 12890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Who does what, how and wh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084"/>
          <p:cNvSpPr/>
          <p:nvPr/>
        </p:nvSpPr>
        <p:spPr>
          <a:xfrm>
            <a:off x="6651720" y="2357280"/>
            <a:ext cx="2415960" cy="2500560"/>
          </a:xfrm>
          <a:prstGeom prst="wedgeRoundRectCallout">
            <a:avLst>
              <a:gd name="adj1" fmla="val -76018"/>
              <a:gd name="adj2" fmla="val 483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oR preparation, type of tender, start and closure dates, activities outsourced, information on contracted companies.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085"/>
          <p:cNvSpPr/>
          <p:nvPr/>
        </p:nvSpPr>
        <p:spPr>
          <a:xfrm>
            <a:off x="6629400" y="4952880"/>
            <a:ext cx="2416320" cy="1219320"/>
          </a:xfrm>
          <a:prstGeom prst="wedgeRoundRectCallout">
            <a:avLst>
              <a:gd name="adj1" fmla="val -75296"/>
              <a:gd name="adj2" fmla="val -5494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Interaction mechanisms with evaluators, Steering Group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3. Ongoing evaluation activities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170028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overage of ongoing evalua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 of APRs report on the review of result/impact indic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% mention the review of intervention log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% describe actions to review evaluation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in developing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valuation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8 APRs mention work on evaluation methodologies an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lessons from ex-post &amp; ex-an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followed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Thematic stud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ncreasingly used (21 AP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9C5C-859D-491A-8C85-8DDFE07075C5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3. Ongoing evaluation activities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valuation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relation to your evaluation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 an overview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reparatory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the M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lin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specific evaluation methodologi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 to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follow-up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 lessons from ex post 2000-06 and ex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1"/>
          <p:cNvSpPr/>
          <p:nvPr/>
        </p:nvSpPr>
        <p:spPr>
          <a:xfrm>
            <a:off x="6629400" y="1643040"/>
            <a:ext cx="2416320" cy="1828800"/>
          </a:xfrm>
          <a:prstGeom prst="wedgeRoundRectCallout">
            <a:avLst>
              <a:gd name="adj1" fmla="val -101601"/>
              <a:gd name="adj2" fmla="val 3216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g. reviews of intervention logic, result and impact indicators, and evaluation ques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2"/>
          <p:cNvSpPr/>
          <p:nvPr/>
        </p:nvSpPr>
        <p:spPr>
          <a:xfrm>
            <a:off x="6629400" y="4143240"/>
            <a:ext cx="2416320" cy="1785960"/>
          </a:xfrm>
          <a:prstGeom prst="wedgeRoundRectCallout">
            <a:avLst>
              <a:gd name="adj1" fmla="val -115986"/>
              <a:gd name="adj2" fmla="val -14083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ecify themes or outcomes of outsourced studies, surveys, case studie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4. Systems for data collection and management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70028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Data collectio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tracts major attention of AP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organisational model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dat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Main data gaps</a:t>
            </a: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ate to indicators for environmental measures, GVA-related and non-agricultural activ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Processi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unharmonized data as challe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tivities to improv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data quality &amp; overcome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C81B-2A82-4898-A39E-C4B77680E183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23:27Z</dcterms:created>
  <dc:creator>AEIDL</dc:creator>
  <dc:description/>
  <dc:language>en-US</dc:language>
  <cp:lastModifiedBy>Hannes Wimmer</cp:lastModifiedBy>
  <cp:lastPrinted>2008-05-30T14:18:28Z</cp:lastPrinted>
  <dcterms:modified xsi:type="dcterms:W3CDTF">2010-03-15T10:49:27Z</dcterms:modified>
  <cp:revision>370</cp:revision>
  <dc:subject/>
  <dc:title>EENRD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51144767</vt:r8>
  </property>
  <property fmtid="{D5CDD505-2E9C-101B-9397-08002B2CF9AE}" pid="3" name="_AuthorEmail">
    <vt:lpwstr>s.lafiandra@politicheagricole.gov.it</vt:lpwstr>
  </property>
  <property fmtid="{D5CDD505-2E9C-101B-9397-08002B2CF9AE}" pid="4" name="_AuthorEmailDisplayName">
    <vt:lpwstr>Lafiandra Stefano</vt:lpwstr>
  </property>
  <property fmtid="{D5CDD505-2E9C-101B-9397-08002B2CF9AE}" pid="5" name="_EmailSubject">
    <vt:lpwstr>Slides incontro RRE_evaluation group del 15/03/2010</vt:lpwstr>
  </property>
</Properties>
</file>